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C109-B80B-45FB-BD33-DE5F7868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B4F3-2969-4D8A-BE8A-5467C73E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2DEC-A636-44C6-9707-8D3567CC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AA87-7B58-4B90-8148-46121BCF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6177-EC73-4793-B7B1-001543FA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AE2D-34D2-4AFD-9ABB-D4E1704E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1A6D-9F62-4D82-8518-93C80A89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17CA-3D94-4564-A854-6D7EEDA6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5959-01B2-496B-BC1E-E10C81C4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0AF1-43A6-4FA7-8649-9C9F6F95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5AB1-060A-4806-A014-1B8C9C20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A106-CBA5-4273-8F51-CF669E31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ED13-37DE-4EC3-A165-093CDD57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24C9-85E3-48A2-BBA6-EF4F7B57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517D-7DDC-4EC6-9396-235458BB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4E6C-03DE-4BD9-BBA2-7FFD91FA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F56B-F066-4B69-9C03-4878390F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801E7-72E2-4C67-A9E1-593191F1E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99C8A-7F6B-4D36-8D0A-0BB4C4D3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EDDA8-1206-4C7D-A1F9-C8A72CD2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21012-2A88-4097-8E47-02C0F52D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92FEE-0EC4-434E-B302-092E7CD7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80B6-DB8A-4F1F-A21C-42705EFB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75F8F-DDF7-428A-A977-7906FCA9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F7FFA-6C03-4C39-B4F1-0CC37066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59A3F-94AA-48D1-BB53-93F7D103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24DD4-1B6F-4346-A1AE-457CA100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34DE8-5B0F-48CF-B534-4F57015B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33550-4469-4A87-B9A1-6084B4F1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76F5B-1B07-461B-9112-390DDE56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EAC1B-7C76-44AB-BB4F-1B65A63C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EF2AA-50A4-42A3-A05E-BD955516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1AD1D-FC3E-43E9-8AEC-CF12E121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CAAE-6CB0-4E8D-A64F-E9BD7364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F8B54-B552-475C-88D5-036E1634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EB6C1-D919-4625-B907-ABB365A4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85EA3-4C10-409B-A0AF-E0A28B79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31646-8EF1-4E1D-BD65-86F7752D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545FA-4E3E-459C-9A3E-58C586B4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9EF74-E20E-4328-82AA-6C37B415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5CC8B-ECBB-45E7-A3F2-F8581575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8E24F-E66D-40A2-89AA-EEB8F453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C4C54-5171-4528-B305-7DFC4A02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866-8963-4CB7-A319-6C64A1CF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C3F0-A708-4886-8E51-6941672B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9CE0-07F0-4EEC-B054-17401415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267-F2B1-436E-AEF4-3C696B28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8D03-5F14-427E-9F49-AC7C5B65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968E-4813-47CB-9F5E-868FDD6D77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E94E-7A6C-403A-8CF0-9D406E2A94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50EC-1740-445C-A765-ADF764AFF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1F89-949A-490D-AC78-D6EA54967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k12onlineconference.org/docs/k12online06-agenda.html" TargetMode="External"/><Relationship Id="rId3" Type="http://schemas.openxmlformats.org/officeDocument/2006/relationships/hyperlink" Target="http://www.umanitoba.ca/learning_technologies/connectivisim/" TargetMode="External"/><Relationship Id="rId4" Type="http://schemas.openxmlformats.org/officeDocument/2006/relationships/hyperlink" Target="http://www.umanitoba.ca/learning_technologies/connectivisim/" TargetMode="External"/><Relationship Id="rId5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CTAPIV_Cybersafety1_20_07.ppt" TargetMode="Externa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learningtimes.org/" TargetMode="External"/><Relationship Id="rId3" Type="http://schemas.openxmlformats.org/officeDocument/2006/relationships/hyperlink" Target="http://learningtimes.org/" TargetMode="External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3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February 22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n-line Conferenc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-12 Online Con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nnectivism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Online Con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Edublog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Growing community of authors who blog to share ideas around educational technology and other education 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Edublog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avid Warl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ill Richard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Vicki Dav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209680" y="2514600"/>
            <a:ext cx="1121040" cy="1295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520040" y="3809880"/>
            <a:ext cx="1150920" cy="1447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209680" y="5029200"/>
            <a:ext cx="968400" cy="1419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n-line Books / Resourc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Many on-line book(lets) are being published and made available for free on the we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Mostly written in collaborative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n-line Books / Resourc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52480" y="2286000"/>
            <a:ext cx="7010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oming of Age 2.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e0131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01318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e01318"/>
                </a:solidFill>
                <a:latin typeface="Arial"/>
              </a:rPr>
              <a:t>An Introduction to the NEW worldwide we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Lesson Plan Ideas / Resourc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www.lessonplanspag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school.discovery.com/lessonplan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www.teach-nology.com/teachers/lesson_plan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www.microsoft.com/Education/LessonPlans.msp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447920"/>
            <a:ext cx="7010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ounger and younger children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cessing on-line materials – at ho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d in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types of risky behaviors are y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eing with our young peo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Just what can we do to make sure th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ve the safest environment 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Blog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Plans d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Presentations start next Tue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nstructor &amp; Peer assessment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edule of presentations on the wiki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8440" y="121932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ber Safety; The role of the schoo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Do It Yourself" Professional Development &amp; Resources for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013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318"/>
                </a:solidFill>
                <a:latin typeface="Arial"/>
              </a:rPr>
              <a:t>Discussion: </a:t>
            </a: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Keeping our Children Safe on the Net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35812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yber-safety 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284800" y="533520"/>
            <a:ext cx="3498840" cy="525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743200" y="129528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f a picture is worth a thousand word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Keeping Our Children Saf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60199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at is a video wor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523880"/>
            <a:ext cx="8610480" cy="4724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Personal Professional Development for Teachers 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Personal Professional Developmen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dentify as Life-long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del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asses / Courses /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chnology – </a:t>
            </a:r>
            <a:r>
              <a:rPr b="1" i="1" lang="en-US" sz="2800" spc="-1" strike="noStrike">
                <a:solidFill>
                  <a:srgbClr val="e01318"/>
                </a:solidFill>
                <a:latin typeface="Arial"/>
              </a:rPr>
              <a:t>growing opportunities in asynchronous learning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0106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echnology Assisted On-line Learning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52480" y="22093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bin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On-line Con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dublo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On-line Books / Mate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esson Pl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Webina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On-line seminars / discu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earningtimes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n-line Conferenc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onferences delivered on-line (audio and vide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Key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ando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ive and Archived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jeff.whipple</cp:lastModifiedBy>
  <dcterms:modified xsi:type="dcterms:W3CDTF">2007-02-22T18:04:18Z</dcterms:modified>
  <cp:revision>35</cp:revision>
  <dc:subject/>
  <dc:title>Welcome to  ED3862</dc:title>
</cp:coreProperties>
</file>